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EF7-8601-41BF-B1A4-15D7BF93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5B9-6318-4B8C-A0A4-9B437EEB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26E-ABFE-49AD-B215-C135EEE3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775-0B20-4F49-B805-AAF28D0A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1CC-7A5D-47AD-A209-7B485AA8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F8A-6AD7-4842-A546-E6468624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8DD-074C-4D5A-AD07-1C36F041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D2D-59D7-41C3-ABA5-76FE160F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D0C-9F66-4FE8-88FA-BA060E97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59B-0A63-467E-BD66-93C3E79B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F63-6D21-4CF5-ACF6-59878ED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1AA-AA8F-4D05-9CD0-3C8513C0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61B0-94CC-4E98-8FC3-9D2434FAC2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281160"/>
            <a:ext cx="8242200" cy="1150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0" y="2357280"/>
            <a:ext cx="557208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Давайте построим график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тогда график нашей функ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</a:t>
            </a: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симметричен относительно прямой </a:t>
            </a:r>
            <a:r>
              <a:rPr b="1" i="1" lang="en-US" sz="1800" spc="-1" strike="noStrike">
                <a:solidFill>
                  <a:srgbClr val="558ed5"/>
                </a:solidFill>
                <a:latin typeface="Arial"/>
              </a:rPr>
              <a:t>y</a:t>
            </a: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558ed5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 забываем, что мы рассматрив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чай неотрицательного значения аргумен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есть х≥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2428920" y="2786040"/>
            <a:ext cx="1120680" cy="5000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2500200" y="3643200"/>
            <a:ext cx="968400" cy="428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1234s.png"/>
          <p:cNvPicPr/>
          <p:nvPr/>
        </p:nvPicPr>
        <p:blipFill>
          <a:blip r:embed="rId4"/>
          <a:stretch/>
        </p:blipFill>
        <p:spPr>
          <a:xfrm>
            <a:off x="5643720" y="1500120"/>
            <a:ext cx="3286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1"/>
          <p:cNvSpPr/>
          <p:nvPr/>
        </p:nvSpPr>
        <p:spPr>
          <a:xfrm>
            <a:off x="428760" y="1285920"/>
            <a:ext cx="8286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Приме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йти область определения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Показатель корня нашей функции – чет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начит </a:t>
            </a: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под корнем должно находиться неотрицательное чи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шим неравенств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10≥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≥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≥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y)=[5;+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Показатель корня нашей функции – нечетный, тогда под знаком корня может находиться люб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y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+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1441440" cy="357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4500720" y="1643040"/>
            <a:ext cx="1301760" cy="357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33" descr="Безымянный.png"/>
          <p:cNvPicPr/>
          <p:nvPr/>
        </p:nvPicPr>
        <p:blipFill>
          <a:blip r:embed="rId1"/>
          <a:stretch/>
        </p:blipFill>
        <p:spPr>
          <a:xfrm>
            <a:off x="3714840" y="5643720"/>
            <a:ext cx="2104920" cy="6094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32" descr="32465.png"/>
          <p:cNvPicPr/>
          <p:nvPr/>
        </p:nvPicPr>
        <p:blipFill>
          <a:blip r:embed="rId2"/>
          <a:stretch/>
        </p:blipFill>
        <p:spPr>
          <a:xfrm>
            <a:off x="5500800" y="3714840"/>
            <a:ext cx="2495520" cy="9619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0" descr="Безымянный4.png"/>
          <p:cNvPicPr/>
          <p:nvPr/>
        </p:nvPicPr>
        <p:blipFill>
          <a:blip r:embed="rId3"/>
          <a:stretch/>
        </p:blipFill>
        <p:spPr>
          <a:xfrm>
            <a:off x="5477040" y="4643280"/>
            <a:ext cx="3666960" cy="1028880"/>
          </a:xfrm>
          <a:prstGeom prst="rect">
            <a:avLst/>
          </a:prstGeom>
          <a:ln w="0">
            <a:noFill/>
          </a:ln>
        </p:spPr>
      </p:pic>
      <p:pic>
        <p:nvPicPr>
          <p:cNvPr id="141" name="Заголовок 1" descr=""/>
          <p:cNvPicPr/>
          <p:nvPr/>
        </p:nvPicPr>
        <p:blipFill>
          <a:blip r:embed="rId4"/>
          <a:stretch/>
        </p:blipFill>
        <p:spPr>
          <a:xfrm>
            <a:off x="493560" y="-6480"/>
            <a:ext cx="8242560" cy="10130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11"/>
          <p:cNvSpPr/>
          <p:nvPr/>
        </p:nvSpPr>
        <p:spPr>
          <a:xfrm>
            <a:off x="428760" y="928800"/>
            <a:ext cx="8501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Приме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йти область определения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а выражения данных в условии имеют смысл только при неотрицательных подкоренных выражениях, тогда нам надо решить систему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Последовательно найдем решения для каждого выра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им наше решение на числовой пря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Решим второе неравен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им наше решение на числовой пря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Отметим найденные решения на одной прям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ечением решений является отрезок: </a:t>
            </a: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[2;5] – это и есть область определения исходной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5"/>
          <a:stretch/>
        </p:blipFill>
        <p:spPr>
          <a:xfrm>
            <a:off x="3643200" y="1285920"/>
            <a:ext cx="2362320" cy="3571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6"/>
          <a:stretch/>
        </p:blipFill>
        <p:spPr>
          <a:xfrm>
            <a:off x="2857680" y="2643120"/>
            <a:ext cx="1428480" cy="571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7"/>
          <a:stretch/>
        </p:blipFill>
        <p:spPr>
          <a:xfrm>
            <a:off x="1357200" y="3500280"/>
            <a:ext cx="1508400" cy="428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8"/>
          <a:stretch/>
        </p:blipFill>
        <p:spPr>
          <a:xfrm>
            <a:off x="3929040" y="3500280"/>
            <a:ext cx="960480" cy="428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9"/>
          <a:stretch/>
        </p:blipFill>
        <p:spPr>
          <a:xfrm>
            <a:off x="6215040" y="3500280"/>
            <a:ext cx="714240" cy="397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6" descr=""/>
          <p:cNvPicPr/>
          <p:nvPr/>
        </p:nvPicPr>
        <p:blipFill>
          <a:blip r:embed="rId10"/>
          <a:stretch/>
        </p:blipFill>
        <p:spPr>
          <a:xfrm>
            <a:off x="571680" y="4643280"/>
            <a:ext cx="1385640" cy="357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"/>
          <p:cNvPicPr/>
          <p:nvPr/>
        </p:nvPicPr>
        <p:blipFill>
          <a:blip r:embed="rId11"/>
          <a:stretch/>
        </p:blipFill>
        <p:spPr>
          <a:xfrm>
            <a:off x="2357280" y="4643280"/>
            <a:ext cx="1314720" cy="357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"/>
          <p:cNvPicPr/>
          <p:nvPr/>
        </p:nvPicPr>
        <p:blipFill>
          <a:blip r:embed="rId12"/>
          <a:stretch/>
        </p:blipFill>
        <p:spPr>
          <a:xfrm>
            <a:off x="4071960" y="4643280"/>
            <a:ext cx="928800" cy="363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"/>
          <p:cNvPicPr/>
          <p:nvPr/>
        </p:nvPicPr>
        <p:blipFill>
          <a:blip r:embed="rId13"/>
          <a:stretch/>
        </p:blipFill>
        <p:spPr>
          <a:xfrm>
            <a:off x="5286240" y="4643280"/>
            <a:ext cx="1343160" cy="3574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6"/>
          <p:cNvSpPr/>
          <p:nvPr/>
        </p:nvSpPr>
        <p:spPr>
          <a:xfrm>
            <a:off x="857160" y="371484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285840" y="1195560"/>
            <a:ext cx="492912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Свойства функци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=[0;+∞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ункция не является ни четной, ни нечет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Arial"/>
              </a:rPr>
              <a:t>3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зрастает на[0;+∞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ограничена сверху, ограничена сниз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меньшее значение равно нулю, наибольшего значения н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прерыв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=[0;+∞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укла вверх на луче [0;+∞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нимательно посмотрев на наш график функции мы можем сказать, что в любой точке к нему можно провести касательную (точку х=0 не рассматриваем). А это значит, что наш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ункция дифференцируема в любой точк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изводной в точке х=0 не существует, так как касательная в этой точке совпадает с осью ордин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7" descr="1234s.png"/>
          <p:cNvPicPr/>
          <p:nvPr/>
        </p:nvPicPr>
        <p:blipFill>
          <a:blip r:embed="rId2"/>
          <a:stretch/>
        </p:blipFill>
        <p:spPr>
          <a:xfrm>
            <a:off x="5572080" y="1500120"/>
            <a:ext cx="3286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142920" y="1500120"/>
            <a:ext cx="878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строить график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рафик нашей функции получается из графика  смещением на две единицы влево и на две единицы вниз относительно начала координ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2"/>
          <a:stretch/>
        </p:blipFill>
        <p:spPr>
          <a:xfrm>
            <a:off x="5643720" y="1500120"/>
            <a:ext cx="1593720" cy="3571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4" descr="2145.png"/>
          <p:cNvPicPr/>
          <p:nvPr/>
        </p:nvPicPr>
        <p:blipFill>
          <a:blip r:embed="rId3"/>
          <a:stretch/>
        </p:blipFill>
        <p:spPr>
          <a:xfrm>
            <a:off x="2928960" y="2571840"/>
            <a:ext cx="3108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3"/>
          <p:cNvSpPr/>
          <p:nvPr/>
        </p:nvSpPr>
        <p:spPr>
          <a:xfrm>
            <a:off x="142920" y="1500120"/>
            <a:ext cx="8286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шить урав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Реши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е уравнение 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графическим способ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Построим два графика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найдем точку их пересе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1" descr="213456.png"/>
          <p:cNvPicPr/>
          <p:nvPr/>
        </p:nvPicPr>
        <p:blipFill>
          <a:blip r:embed="rId2"/>
          <a:stretch/>
        </p:blipFill>
        <p:spPr>
          <a:xfrm>
            <a:off x="5500800" y="2643120"/>
            <a:ext cx="3286080" cy="4071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5"/>
          <p:cNvSpPr/>
          <p:nvPr/>
        </p:nvSpPr>
        <p:spPr>
          <a:xfrm>
            <a:off x="785880" y="4357800"/>
            <a:ext cx="414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58ed5"/>
                </a:solidFill>
                <a:latin typeface="Arial"/>
              </a:rPr>
              <a:t>Наши графики пересекаются в одной точке (1;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стави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 в исходное уравнение получаем верное тождество 1=1, значит точка х=1 решение нашего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3"/>
          <a:stretch/>
        </p:blipFill>
        <p:spPr>
          <a:xfrm>
            <a:off x="4643280" y="1500120"/>
            <a:ext cx="1349640" cy="3571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4"/>
          <a:stretch/>
        </p:blipFill>
        <p:spPr>
          <a:xfrm>
            <a:off x="1643040" y="2857680"/>
            <a:ext cx="952560" cy="4284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5"/>
          <a:stretch/>
        </p:blipFill>
        <p:spPr>
          <a:xfrm>
            <a:off x="3429000" y="2928960"/>
            <a:ext cx="128592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285840" y="1428840"/>
            <a:ext cx="857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давайте 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рассмотр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исходную функцию для нечетного показателя корн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ошлом уроке мы с вами узнали, что       , 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558ed5"/>
                </a:solidFill>
                <a:latin typeface="Arial"/>
              </a:rPr>
              <a:t>n 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нечетное существует и при х&lt;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жно заметить, что в этом случае 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наша функция нечет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давайте это провер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в </a:t>
            </a: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свойство графика нечетной функции – симметричность относительно начала координ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айте построим график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3,5,7,9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6929280" y="2071800"/>
            <a:ext cx="357480" cy="371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1428840" y="3286080"/>
            <a:ext cx="6929280" cy="4716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0" y="714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4"/>
          <a:stretch/>
        </p:blipFill>
        <p:spPr>
          <a:xfrm>
            <a:off x="4357800" y="4857840"/>
            <a:ext cx="113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1"/>
          <p:cNvSpPr/>
          <p:nvPr/>
        </p:nvSpPr>
        <p:spPr>
          <a:xfrm>
            <a:off x="428760" y="1285920"/>
            <a:ext cx="8286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зим график функции, которой мы получили вначале относительно начала координ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ось ординат является касательной к графику нашей функции в точке х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21356.png"/>
          <p:cNvPicPr/>
          <p:nvPr/>
        </p:nvPicPr>
        <p:blipFill>
          <a:blip r:embed="rId2"/>
          <a:stretch/>
        </p:blipFill>
        <p:spPr>
          <a:xfrm>
            <a:off x="1714680" y="2214720"/>
            <a:ext cx="58402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0"/>
          <p:cNvSpPr/>
          <p:nvPr/>
        </p:nvSpPr>
        <p:spPr>
          <a:xfrm>
            <a:off x="357120" y="1428840"/>
            <a:ext cx="8643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Пример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ть и прочитать график функ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 построим два графика функции на разных координатных плоскостях, после полученные графики объединим в од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м график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знач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2"/>
          <a:stretch/>
        </p:blipFill>
        <p:spPr>
          <a:xfrm>
            <a:off x="3571920" y="2000160"/>
            <a:ext cx="1844640" cy="928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3714840" y="4143240"/>
            <a:ext cx="177804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1857240" y="5072040"/>
          <a:ext cx="6077160" cy="490680"/>
        </p:xfrm>
        <a:graphic>
          <a:graphicData uri="http://schemas.openxmlformats.org/drawingml/2006/table">
            <a:tbl>
              <a:tblPr/>
              <a:tblGrid>
                <a:gridCol w="1216080"/>
                <a:gridCol w="1214640"/>
                <a:gridCol w="1216080"/>
                <a:gridCol w="1214280"/>
                <a:gridCol w="1216080"/>
              </a:tblGrid>
              <a:tr h="24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633240" y="2811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123567.png"/>
          <p:cNvPicPr/>
          <p:nvPr/>
        </p:nvPicPr>
        <p:blipFill>
          <a:blip r:embed="rId2"/>
          <a:stretch/>
        </p:blipFill>
        <p:spPr>
          <a:xfrm>
            <a:off x="2428920" y="1285920"/>
            <a:ext cx="4500360" cy="20718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214200" y="357192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1/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м хорошо известен, это гипербола, давайте построим график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9" descr="21345.png"/>
          <p:cNvPicPr/>
          <p:nvPr/>
        </p:nvPicPr>
        <p:blipFill>
          <a:blip r:embed="rId3"/>
          <a:stretch/>
        </p:blipFill>
        <p:spPr>
          <a:xfrm>
            <a:off x="2357280" y="4357800"/>
            <a:ext cx="455328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242560" cy="1157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1"/>
          <p:cNvSpPr/>
          <p:nvPr/>
        </p:nvSpPr>
        <p:spPr>
          <a:xfrm>
            <a:off x="2928960" y="10717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диним оба граф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2" descr="213451.png"/>
          <p:cNvPicPr/>
          <p:nvPr/>
        </p:nvPicPr>
        <p:blipFill>
          <a:blip r:embed="rId2"/>
          <a:stretch/>
        </p:blipFill>
        <p:spPr>
          <a:xfrm>
            <a:off x="2071800" y="1500120"/>
            <a:ext cx="4860720" cy="2359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3"/>
          <p:cNvSpPr/>
          <p:nvPr/>
        </p:nvSpPr>
        <p:spPr>
          <a:xfrm>
            <a:off x="714240" y="3857760"/>
            <a:ext cx="814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ята давайте </a:t>
            </a:r>
            <a:r>
              <a:rPr b="1" i="1" lang="ru-RU" sz="1800" spc="-1" strike="noStrike">
                <a:solidFill>
                  <a:srgbClr val="558ed5"/>
                </a:solidFill>
                <a:latin typeface="Arial"/>
              </a:rPr>
              <a:t>опишем свой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ми обладает наша функ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=(-∞;+∞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Ни четная, ни неч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бывает на [1; +∞) и возрастает на (-∞;1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граниченна снизу, ограничена свер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аименьшего значения нет, наибольшее значение равно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Непреры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=( -∞;1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Функция дифференцируема всюду кроме точек х=0 и х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3"/>
          <a:stretch/>
        </p:blipFill>
        <p:spPr>
          <a:xfrm>
            <a:off x="1071720" y="6429240"/>
            <a:ext cx="11048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01:01Z</dcterms:created>
  <dc:creator>апачай</dc:creator>
  <dc:description/>
  <dc:language>en-US</dc:language>
  <cp:lastModifiedBy>Владелец</cp:lastModifiedBy>
  <dcterms:modified xsi:type="dcterms:W3CDTF">2021-04-29T05:46:22Z</dcterms:modified>
  <cp:revision>89</cp:revision>
  <dc:subject/>
  <dc:title>Занимательная математика</dc:title>
</cp:coreProperties>
</file>